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076E-0F09-472E-864A-B8F8E3430B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3263-AE16-45BF-9884-84DD793FE8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D434-A390-4D0A-9FA9-D9F3F4EEEA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8E7E-977D-4B02-8656-05ADF54487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40DC-85D3-486D-B63B-04486652C4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59EA-08EA-4516-8767-82D5E94E4F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B222-40AD-492A-9F98-12F0B47A6B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9F1E-0134-48E3-B6BC-9F32F8B53D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952B-11D3-4F28-9095-0887A3D9EF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E660-5BAF-439E-A449-8BF46F468D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58F-ED30-4B35-AA9B-D5AD2579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0C1-8F28-4A9F-B895-0774BA0E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B5E-67B3-4EE7-974D-A90DF5DA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5A1-99CE-4239-8374-C6FC7BE3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3539-6F19-4304-94E0-B1793006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7C7B-05BB-4111-9C85-DE464C41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536A-9EE3-49A0-963B-9E109842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0D7F-99E6-4E14-BBCE-D3AD97E0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9758-2741-4706-8A68-0BBAEAAC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B4C8-13D8-4A12-83AF-A2288E67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9875-6B53-4049-AAD8-F1B5B7EE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F1E-D8F7-4EA1-ACC9-90763FBC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711E-3046-475B-B1CF-6B3765D8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B7EE-3E8B-4DC1-8CCF-348F0B21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E44F-EBF5-46BE-8114-C06A392A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3E5C-A43B-42B5-83B5-227D7F07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25FC-302A-4C7C-B1B1-0C764409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067-682D-4D89-8188-1E3FEF32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077-57BC-4A0A-BE43-CEC47B9B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FCA-656C-4C95-AD81-F6BAB498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AEE-8A3D-4093-A00F-0C155C51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281-D92F-472F-BA1E-B36815E8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9D6-FB71-425A-9E7D-05805906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A80-DC31-4DCB-B155-A0C89F25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DB23-8CEB-4DD0-9803-A800D6DD51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8924-DA2D-4BB2-9C38-C1FE98BF98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31148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Щ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14680" y="2357280"/>
            <a:ext cx="7145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Щ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857240" y="2071800"/>
            <a:ext cx="7058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8" descr=""/>
          <p:cNvPicPr/>
          <p:nvPr/>
        </p:nvPicPr>
        <p:blipFill>
          <a:blip r:embed="rId1"/>
          <a:stretch/>
        </p:blipFill>
        <p:spPr>
          <a:xfrm>
            <a:off x="2000160" y="2214720"/>
            <a:ext cx="6858000" cy="15714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3071160" y="2143080"/>
            <a:ext cx="57132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857680" y="2000160"/>
            <a:ext cx="714240" cy="13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571120" y="1928880"/>
            <a:ext cx="785880" cy="15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428920" y="2000160"/>
            <a:ext cx="71424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357280" y="228600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2285280" y="257184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2214720" y="2857680"/>
            <a:ext cx="35712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0"/>
          <p:cNvSpPr/>
          <p:nvPr/>
        </p:nvSpPr>
        <p:spPr>
          <a:xfrm>
            <a:off x="2214000" y="3071880"/>
            <a:ext cx="2142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2"/>
          <p:cNvSpPr/>
          <p:nvPr/>
        </p:nvSpPr>
        <p:spPr>
          <a:xfrm>
            <a:off x="3286080" y="2214720"/>
            <a:ext cx="2858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4"/>
          <p:cNvSpPr/>
          <p:nvPr/>
        </p:nvSpPr>
        <p:spPr>
          <a:xfrm>
            <a:off x="357192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6"/>
          <p:cNvSpPr/>
          <p:nvPr/>
        </p:nvSpPr>
        <p:spPr>
          <a:xfrm>
            <a:off x="357192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38"/>
          <p:cNvSpPr/>
          <p:nvPr/>
        </p:nvSpPr>
        <p:spPr>
          <a:xfrm>
            <a:off x="357192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0"/>
          <p:cNvSpPr/>
          <p:nvPr/>
        </p:nvSpPr>
        <p:spPr>
          <a:xfrm>
            <a:off x="357192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42"/>
          <p:cNvSpPr/>
          <p:nvPr/>
        </p:nvSpPr>
        <p:spPr>
          <a:xfrm>
            <a:off x="364320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Соединительная линия уступом 44"/>
          <p:cNvCxnSpPr/>
          <p:nvPr/>
        </p:nvCxnSpPr>
        <p:spPr>
          <a:xfrm>
            <a:off x="364320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3" name="Прямая соединительная линия 46"/>
          <p:cNvSpPr/>
          <p:nvPr/>
        </p:nvSpPr>
        <p:spPr>
          <a:xfrm>
            <a:off x="364320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48"/>
          <p:cNvSpPr/>
          <p:nvPr/>
        </p:nvSpPr>
        <p:spPr>
          <a:xfrm>
            <a:off x="364320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0"/>
          <p:cNvSpPr/>
          <p:nvPr/>
        </p:nvSpPr>
        <p:spPr>
          <a:xfrm>
            <a:off x="364320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68"/>
          <p:cNvSpPr/>
          <p:nvPr/>
        </p:nvSpPr>
        <p:spPr>
          <a:xfrm flipH="1">
            <a:off x="4928760" y="2214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0"/>
          <p:cNvSpPr/>
          <p:nvPr/>
        </p:nvSpPr>
        <p:spPr>
          <a:xfrm>
            <a:off x="642924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2"/>
          <p:cNvSpPr/>
          <p:nvPr/>
        </p:nvSpPr>
        <p:spPr>
          <a:xfrm>
            <a:off x="642924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4"/>
          <p:cNvSpPr/>
          <p:nvPr/>
        </p:nvSpPr>
        <p:spPr>
          <a:xfrm>
            <a:off x="642924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86"/>
          <p:cNvSpPr/>
          <p:nvPr/>
        </p:nvSpPr>
        <p:spPr>
          <a:xfrm>
            <a:off x="642924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88"/>
          <p:cNvSpPr/>
          <p:nvPr/>
        </p:nvSpPr>
        <p:spPr>
          <a:xfrm>
            <a:off x="642924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90"/>
          <p:cNvSpPr/>
          <p:nvPr/>
        </p:nvSpPr>
        <p:spPr>
          <a:xfrm>
            <a:off x="642924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96"/>
          <p:cNvSpPr/>
          <p:nvPr/>
        </p:nvSpPr>
        <p:spPr>
          <a:xfrm>
            <a:off x="6429240" y="364320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4"/>
          <p:cNvSpPr/>
          <p:nvPr/>
        </p:nvSpPr>
        <p:spPr>
          <a:xfrm>
            <a:off x="642924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06"/>
          <p:cNvSpPr/>
          <p:nvPr/>
        </p:nvSpPr>
        <p:spPr>
          <a:xfrm>
            <a:off x="642924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08"/>
          <p:cNvSpPr/>
          <p:nvPr/>
        </p:nvSpPr>
        <p:spPr>
          <a:xfrm>
            <a:off x="642924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2"/>
          <p:cNvSpPr/>
          <p:nvPr/>
        </p:nvSpPr>
        <p:spPr>
          <a:xfrm>
            <a:off x="6429240" y="2214720"/>
            <a:ext cx="121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22"/>
          <p:cNvSpPr/>
          <p:nvPr/>
        </p:nvSpPr>
        <p:spPr>
          <a:xfrm flipH="1">
            <a:off x="385560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26"/>
          <p:cNvSpPr/>
          <p:nvPr/>
        </p:nvSpPr>
        <p:spPr>
          <a:xfrm flipH="1">
            <a:off x="37148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36"/>
          <p:cNvSpPr/>
          <p:nvPr/>
        </p:nvSpPr>
        <p:spPr>
          <a:xfrm flipH="1">
            <a:off x="785772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0"/>
          <p:cNvSpPr/>
          <p:nvPr/>
        </p:nvSpPr>
        <p:spPr>
          <a:xfrm flipH="1">
            <a:off x="84297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54"/>
          <p:cNvSpPr/>
          <p:nvPr/>
        </p:nvSpPr>
        <p:spPr>
          <a:xfrm flipH="1">
            <a:off x="85010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56"/>
          <p:cNvSpPr/>
          <p:nvPr/>
        </p:nvSpPr>
        <p:spPr>
          <a:xfrm flipH="1">
            <a:off x="857268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714680" y="2071800"/>
            <a:ext cx="7380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714680" y="2143080"/>
            <a:ext cx="71769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букву Щ и раскрась её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928880" y="1785960"/>
            <a:ext cx="69944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785960" y="2143080"/>
            <a:ext cx="72500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785960" y="2357280"/>
            <a:ext cx="7257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7T09:47:30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